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A3B-66C5-425D-9B7F-7F95A672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39D-054C-4A0A-94BD-638B6FB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FE7-21CE-4A98-86DF-07669D44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9E2-C1D5-426F-B2C5-ED269B6D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26E-A7F6-4B7F-8EED-6BC3B537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7DF-2EE7-48F1-B63D-AF5B0E9D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C31-5B95-4066-B1EC-A7506C1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C58-FF60-4745-83AD-A8D25C02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F74-0AFC-43D4-B3AA-2505AAC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42E-0BCD-4D85-A959-B0A1AD9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4C5-1762-4CB3-A8F4-1F86E0B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457-C693-4E57-9B48-95E93E1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86E8C-5DCF-48EB-8AF5-C35C7C6DBF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fly1BgWHT" descr=""/>
          <p:cNvPicPr/>
          <p:nvPr/>
        </p:nvPicPr>
        <p:blipFill>
          <a:blip r:embed=""/>
          <a:stretch/>
        </p:blipFill>
        <p:spPr>
          <a:xfrm>
            <a:off x="1017720" y="1260360"/>
            <a:ext cx="8161200" cy="50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As F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40217_fleurs" descr=""/>
          <p:cNvPicPr/>
          <p:nvPr/>
        </p:nvPicPr>
        <p:blipFill>
          <a:blip r:embed=""/>
          <a:stretch/>
        </p:blipFill>
        <p:spPr>
          <a:xfrm>
            <a:off x="5494320" y="176832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Mulher gosta de receber flores ,mas no fundo nós ficamos com dó quando elas mor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st-Flower" descr=""/>
          <p:cNvPicPr/>
          <p:nvPr/>
        </p:nvPicPr>
        <p:blipFill>
          <a:blip r:embed=""/>
          <a:stretch/>
        </p:blipFill>
        <p:spPr>
          <a:xfrm>
            <a:off x="51516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flores estão em todos os lugares, nos corações dos apaixonados, na mais alta montanha,até no meio das ped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atering_flowers_md" descr=""/>
          <p:cNvPicPr/>
          <p:nvPr/>
        </p:nvPicPr>
        <p:blipFill>
          <a:blip r:embed=""/>
          <a:stretch/>
        </p:blipFill>
        <p:spPr>
          <a:xfrm>
            <a:off x="5151600" y="2408400"/>
            <a:ext cx="4425840" cy="3709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gue o coração de quem se ama a cada dia em todos os momentos de sua vida. Pois quando você rega os corações dos amigos o seu sera regado s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50" name="petunia2" descr=""/>
          <p:cNvPicPr/>
          <p:nvPr/>
        </p:nvPicPr>
        <p:blipFill>
          <a:blip r:embed=""/>
          <a:stretch/>
        </p:blipFill>
        <p:spPr>
          <a:xfrm>
            <a:off x="5940360" y="2160720"/>
            <a:ext cx="3060720" cy="377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isso  eu estou regando seu c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Tã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Sil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25Z</dcterms:created>
  <dc:creator/>
  <dc:description/>
  <dc:language>en-US</dc:language>
  <cp:lastModifiedBy/>
  <cp:revision>1</cp:revision>
  <dc:subject/>
  <dc:title/>
</cp:coreProperties>
</file>